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8C4-9EB9-4CF6-B14F-6EF59214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559-C943-4868-AFCE-5E6CE7CC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A7F-A42B-42A2-867D-97A225BA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6E6-1CDD-4814-BC11-17E1C9B4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386-3BEF-453A-9148-D358C9CA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25E-2FD5-4A69-B958-1E8C8D07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C2D-26F6-4902-B9FC-86E03D48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CCC-2CB6-41A3-BD00-5175D230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35C-F7B8-474A-A9F9-4F927431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6B6-AB5B-4A44-83F4-634629D3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E1C-B0BE-4A1A-9251-1D2BE46B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6D5-977C-485C-B962-B5FF4388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81AC-609B-4E75-8946-17B7B0742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and Subtracting Dec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9760" y="186840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Adding and Subtracting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00100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divide by 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763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366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3962520"/>
            <a:ext cx="3962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9154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v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Properties of Ad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01028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6868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ying and Dividing Dec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440" y="2144880"/>
            <a:ext cx="538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1: Multiplying and Dividing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055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39152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29:30Z</dcterms:created>
  <dc:creator>Graham</dc:creator>
  <dc:description/>
  <dc:language>en-US</dc:language>
  <cp:lastModifiedBy>Graham</cp:lastModifiedBy>
  <dcterms:modified xsi:type="dcterms:W3CDTF">2011-08-31T23:34:45Z</dcterms:modified>
  <cp:revision>2</cp:revision>
  <dc:subject/>
  <dc:title>Lesson 1.2 Adding and Subtracting Decimals</dc:title>
</cp:coreProperties>
</file>